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001-356D-481D-A124-70D70E8C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9C2-F35E-4697-AF48-5F21D749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7D3-B15E-460E-B252-DF077566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75D-B451-473F-B8BD-2915D179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0DB5-2853-47EF-ABB8-8FD92837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5F64-8949-4DE3-AD7D-7A82635C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7CF2-AFA3-4A3D-BD58-6AD60B3A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10E2-04E0-40C2-B7EA-90421EB1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31DE-A996-4344-BF93-8B79342B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8C56-66F3-4362-A619-570B1C05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9AEE-78DC-489D-BB1C-6D16D46F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3D8-2B8A-4AA5-9A9D-68E6E83A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7B87-92EF-43CE-97B9-3866B0CE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FD76-4AE5-461E-B8A6-48534DA1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C822-CBC7-4AD3-9B6E-2AA7908D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0D38-6EFF-4396-9358-EB10F016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17D3-69E4-4061-9904-80A3E8D5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DFD-A991-412F-A641-7B2A2CC1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52B-7C26-4CB4-B840-CA8312DB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6C6-6ADF-4CC5-BA6B-C302EA9B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A08-32F1-4143-8A75-F6F16AAD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B3F-58CD-4891-B2C7-E3F2A552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E56-1655-452A-A2A2-DFF2901B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CB1-A616-4D9C-9CC6-F51D259C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9BE9-F57D-41DF-AE5F-C3019FCADC6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C4C8-B75D-4DA7-802C-C7135BC97FD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SEMANAREA TRIUNGHIURILOR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~ Aplica</a:t>
            </a:r>
            <a:r>
              <a:rPr b="0" lang="ro-RO" sz="4800" spc="-1" strike="noStrike">
                <a:solidFill>
                  <a:srgbClr val="ccecff"/>
                </a:solidFill>
                <a:latin typeface="Arial"/>
              </a:rPr>
              <a:t>ţii practice ~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715932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ezentarea elevilor</a:t>
            </a: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 din clasa a VII-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Definiţ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59600" y="1371600"/>
            <a:ext cx="3012120" cy="1892520"/>
            <a:chOff x="5259600" y="1371600"/>
            <a:chExt cx="3012120" cy="1892520"/>
          </a:xfrm>
        </p:grpSpPr>
        <p:sp>
          <p:nvSpPr>
            <p:cNvPr id="215" name="Line 6"/>
            <p:cNvSpPr/>
            <p:nvPr/>
          </p:nvSpPr>
          <p:spPr>
            <a:xfrm flipH="1">
              <a:off x="5578560" y="1792440"/>
              <a:ext cx="838080" cy="10666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5578560" y="2859120"/>
              <a:ext cx="2438280" cy="46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Line 8"/>
            <p:cNvSpPr/>
            <p:nvPr/>
          </p:nvSpPr>
          <p:spPr>
            <a:xfrm>
              <a:off x="6416640" y="1792440"/>
              <a:ext cx="1676520" cy="114300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6097680" y="1371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5259600" y="2895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7926480" y="28195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031000" y="3693960"/>
            <a:ext cx="3978000" cy="2044800"/>
            <a:chOff x="5031000" y="3693960"/>
            <a:chExt cx="3978000" cy="2044800"/>
          </a:xfrm>
        </p:grpSpPr>
        <p:sp>
          <p:nvSpPr>
            <p:cNvPr id="222" name="Line 9"/>
            <p:cNvSpPr/>
            <p:nvPr/>
          </p:nvSpPr>
          <p:spPr>
            <a:xfrm>
              <a:off x="5425920" y="5486400"/>
              <a:ext cx="3353040" cy="46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 flipV="1">
              <a:off x="5425920" y="4191120"/>
              <a:ext cx="990720" cy="12952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Line 12"/>
            <p:cNvSpPr/>
            <p:nvPr/>
          </p:nvSpPr>
          <p:spPr>
            <a:xfrm>
              <a:off x="6416640" y="4191120"/>
              <a:ext cx="2362320" cy="12952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6250320" y="3693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Text Box 17"/>
            <p:cNvSpPr/>
            <p:nvPr/>
          </p:nvSpPr>
          <p:spPr>
            <a:xfrm>
              <a:off x="5031000" y="5370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Text Box 19"/>
            <p:cNvSpPr/>
            <p:nvPr/>
          </p:nvSpPr>
          <p:spPr>
            <a:xfrm>
              <a:off x="8688240" y="5370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eaeaea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28" name="Rectangle 4"/>
          <p:cNvSpPr/>
          <p:nvPr/>
        </p:nvSpPr>
        <p:spPr>
          <a:xfrm>
            <a:off x="533520" y="1447920"/>
            <a:ext cx="40384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Două triunghiuri sunt asemenea dacă au laturile respectiv proporţionale şi unghiurile opuse lor respectiv congru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1219320" y="3800520"/>
                <a:ext cx="2743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219320" y="518148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43000" y="487692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≡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≡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≡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ecff"/>
                </a:solidFill>
                <a:latin typeface="Arial"/>
              </a:rPr>
              <a:t>Teorema fundamentală a asemănări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 paralel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la o latur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a unui triunghi formeaz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u celelalte dou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un triunghi asemenea cu cel da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00ff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00ff"/>
                </a:solidFill>
                <a:latin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cc00ff"/>
                </a:solidFill>
                <a:latin typeface="Times New Roman"/>
              </a:rPr>
              <a:t>DE </a:t>
            </a:r>
            <a:r>
              <a:rPr b="0" lang="en-US" sz="3600" spc="-1" strike="noStrike">
                <a:solidFill>
                  <a:srgbClr val="cc00ff"/>
                </a:solidFill>
                <a:latin typeface="Symbol"/>
                <a:ea typeface="Symbol"/>
              </a:rPr>
              <a:t></a:t>
            </a:r>
            <a:r>
              <a:rPr b="0" lang="en-US" sz="3600" spc="-1" strike="noStrike">
                <a:solidFill>
                  <a:srgbClr val="cc00ff"/>
                </a:solidFill>
                <a:latin typeface="Times New Roman"/>
              </a:rPr>
              <a:t> BC   </a:t>
            </a:r>
            <a:r>
              <a:rPr b="0" lang="en-US" sz="3600" spc="-1" strike="noStrike">
                <a:solidFill>
                  <a:srgbClr val="cc00ff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cc00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∆ADE ~∆ABC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14400" y="3657600"/>
            <a:ext cx="2895480" cy="2209680"/>
            <a:chOff x="914400" y="3657600"/>
            <a:chExt cx="2895480" cy="2209680"/>
          </a:xfrm>
        </p:grpSpPr>
        <p:sp>
          <p:nvSpPr>
            <p:cNvPr id="237" name=""/>
            <p:cNvSpPr/>
            <p:nvPr/>
          </p:nvSpPr>
          <p:spPr>
            <a:xfrm flipH="1">
              <a:off x="914400" y="3657600"/>
              <a:ext cx="990720" cy="22096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5867280"/>
              <a:ext cx="28954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5120" y="3657600"/>
              <a:ext cx="1904760" cy="22096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9320" y="5105520"/>
              <a:ext cx="19047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524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0480" y="5834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66960" y="5829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33480" y="4886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76640" y="4886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eaeae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3"/>
              <p:cNvSpPr txBox="1"/>
              <p:nvPr/>
            </p:nvSpPr>
            <p:spPr>
              <a:xfrm>
                <a:off x="5178600" y="4695840"/>
                <a:ext cx="29700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ecff"/>
                </a:solidFill>
                <a:latin typeface="Monotype Corsiva"/>
              </a:rPr>
              <a:t>Cum determinau egiptenii înălţimea unei piramide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1357200" cy="1752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3581280" cy="21718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4419360" cy="273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480" y="449568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Tahoma"/>
              </a:rPr>
              <a:t>Thales ne-a ajutat să dezlegăm mister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Utilizând aceeaşi metodă, am determinat înălţimea batrânului plop din curtea şcoli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274840" cy="3886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657600" y="2286000"/>
            <a:ext cx="5181480" cy="426708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343400" y="5715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7150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6095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2633760"/>
            <a:ext cx="800280" cy="3238560"/>
          </a:xfrm>
          <a:custGeom>
            <a:avLst/>
            <a:gdLst/>
            <a:ahLst/>
            <a:rect l="l" t="t" r="r" b="b"/>
            <a:pathLst>
              <a:path w="504" h="1376">
                <a:moveTo>
                  <a:pt x="248" y="1304"/>
                </a:moveTo>
                <a:cubicBezTo>
                  <a:pt x="168" y="1312"/>
                  <a:pt x="16" y="1376"/>
                  <a:pt x="8" y="1160"/>
                </a:cubicBezTo>
                <a:cubicBezTo>
                  <a:pt x="0" y="944"/>
                  <a:pt x="120" y="16"/>
                  <a:pt x="200" y="8"/>
                </a:cubicBezTo>
                <a:cubicBezTo>
                  <a:pt x="280" y="0"/>
                  <a:pt x="472" y="896"/>
                  <a:pt x="488" y="1112"/>
                </a:cubicBezTo>
                <a:cubicBezTo>
                  <a:pt x="504" y="1328"/>
                  <a:pt x="328" y="1296"/>
                  <a:pt x="248" y="1304"/>
                </a:cubicBezTo>
                <a:close/>
              </a:path>
            </a:pathLst>
          </a:custGeom>
          <a:solidFill>
            <a:srgbClr val="00cc66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91080" y="2276640"/>
            <a:ext cx="457200" cy="533160"/>
          </a:xfrm>
          <a:custGeom>
            <a:avLst/>
            <a:gdLst>
              <a:gd name="textAreaLeft" fmla="*/ 104400 w 457200"/>
              <a:gd name="textAreaRight" fmla="*/ 352800 w 45720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2666880"/>
            <a:ext cx="289548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6095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49840" y="5931000"/>
            <a:ext cx="2565360" cy="330120"/>
          </a:xfrm>
          <a:custGeom>
            <a:avLst/>
            <a:gdLst/>
            <a:ahLst/>
            <a:rect l="l" t="t" r="r" b="b"/>
            <a:pathLst>
              <a:path w="1528" h="208">
                <a:moveTo>
                  <a:pt x="176" y="104"/>
                </a:moveTo>
                <a:cubicBezTo>
                  <a:pt x="184" y="136"/>
                  <a:pt x="48" y="192"/>
                  <a:pt x="272" y="200"/>
                </a:cubicBezTo>
                <a:cubicBezTo>
                  <a:pt x="496" y="208"/>
                  <a:pt x="1528" y="184"/>
                  <a:pt x="1520" y="152"/>
                </a:cubicBezTo>
                <a:cubicBezTo>
                  <a:pt x="1512" y="120"/>
                  <a:pt x="448" y="16"/>
                  <a:pt x="224" y="8"/>
                </a:cubicBezTo>
                <a:cubicBezTo>
                  <a:pt x="0" y="0"/>
                  <a:pt x="168" y="72"/>
                  <a:pt x="176" y="104"/>
                </a:cubicBezTo>
                <a:close/>
              </a:path>
            </a:pathLst>
          </a:custGeom>
          <a:solidFill>
            <a:srgbClr val="969696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5410080"/>
            <a:ext cx="685800" cy="762120"/>
          </a:xfrm>
          <a:prstGeom prst="rtTriangle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3800" y="59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95800" y="2367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62920" y="5943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86640" y="6110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104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15280" y="6110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3200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477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C ~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5400" y="533160"/>
            <a:ext cx="82263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losind asem</a:t>
            </a: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rea triunghiurilor am determinat distan</a:t>
            </a: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ţa de la un punct situat pe uscat la un copac inaccesibil, fiind înconjurat de o  mlaştin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66680" y="2666880"/>
            <a:ext cx="7162920" cy="3581280"/>
            <a:chOff x="1066680" y="2666880"/>
            <a:chExt cx="7162920" cy="3581280"/>
          </a:xfrm>
        </p:grpSpPr>
        <p:sp>
          <p:nvSpPr>
            <p:cNvPr id="275" name=""/>
            <p:cNvSpPr/>
            <p:nvPr/>
          </p:nvSpPr>
          <p:spPr>
            <a:xfrm>
              <a:off x="1066680" y="2666880"/>
              <a:ext cx="7162920" cy="3581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5136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397160" y="3352680"/>
              <a:ext cx="3632040" cy="2819160"/>
              <a:chOff x="1397160" y="3352680"/>
              <a:chExt cx="3632040" cy="2819160"/>
            </a:xfrm>
          </p:grpSpPr>
          <p:sp>
            <p:nvSpPr>
              <p:cNvPr id="278" name=""/>
              <p:cNvSpPr/>
              <p:nvPr/>
            </p:nvSpPr>
            <p:spPr>
              <a:xfrm>
                <a:off x="1397160" y="3885840"/>
                <a:ext cx="2895480" cy="2197080"/>
              </a:xfrm>
              <a:custGeom>
                <a:avLst/>
                <a:gdLst/>
                <a:ahLst/>
                <a:rect l="l" t="t" r="r" b="b"/>
                <a:pathLst>
                  <a:path w="1824" h="1384">
                    <a:moveTo>
                      <a:pt x="272" y="672"/>
                    </a:moveTo>
                    <a:cubicBezTo>
                      <a:pt x="456" y="816"/>
                      <a:pt x="944" y="1304"/>
                      <a:pt x="1136" y="1344"/>
                    </a:cubicBezTo>
                    <a:cubicBezTo>
                      <a:pt x="1328" y="1384"/>
                      <a:pt x="1312" y="1016"/>
                      <a:pt x="1424" y="912"/>
                    </a:cubicBezTo>
                    <a:cubicBezTo>
                      <a:pt x="1536" y="808"/>
                      <a:pt x="1792" y="824"/>
                      <a:pt x="1808" y="720"/>
                    </a:cubicBezTo>
                    <a:cubicBezTo>
                      <a:pt x="1824" y="616"/>
                      <a:pt x="1648" y="376"/>
                      <a:pt x="1520" y="288"/>
                    </a:cubicBezTo>
                    <a:cubicBezTo>
                      <a:pt x="1392" y="200"/>
                      <a:pt x="1216" y="232"/>
                      <a:pt x="1040" y="192"/>
                    </a:cubicBezTo>
                    <a:cubicBezTo>
                      <a:pt x="864" y="152"/>
                      <a:pt x="632" y="0"/>
                      <a:pt x="464" y="48"/>
                    </a:cubicBezTo>
                    <a:cubicBezTo>
                      <a:pt x="296" y="96"/>
                      <a:pt x="64" y="376"/>
                      <a:pt x="32" y="480"/>
                    </a:cubicBezTo>
                    <a:cubicBezTo>
                      <a:pt x="0" y="584"/>
                      <a:pt x="88" y="528"/>
                      <a:pt x="272" y="672"/>
                    </a:cubicBez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87520" y="4406760"/>
                <a:ext cx="1079640" cy="660240"/>
              </a:xfrm>
              <a:custGeom>
                <a:avLst/>
                <a:gdLst/>
                <a:ahLst/>
                <a:rect l="l" t="t" r="r" b="b"/>
                <a:pathLst>
                  <a:path w="680" h="416">
                    <a:moveTo>
                      <a:pt x="32" y="152"/>
                    </a:moveTo>
                    <a:cubicBezTo>
                      <a:pt x="0" y="208"/>
                      <a:pt x="56" y="304"/>
                      <a:pt x="128" y="344"/>
                    </a:cubicBezTo>
                    <a:cubicBezTo>
                      <a:pt x="200" y="384"/>
                      <a:pt x="376" y="416"/>
                      <a:pt x="464" y="392"/>
                    </a:cubicBezTo>
                    <a:cubicBezTo>
                      <a:pt x="552" y="368"/>
                      <a:pt x="680" y="264"/>
                      <a:pt x="656" y="200"/>
                    </a:cubicBezTo>
                    <a:cubicBezTo>
                      <a:pt x="632" y="136"/>
                      <a:pt x="432" y="16"/>
                      <a:pt x="320" y="8"/>
                    </a:cubicBezTo>
                    <a:cubicBezTo>
                      <a:pt x="208" y="0"/>
                      <a:pt x="64" y="96"/>
                      <a:pt x="32" y="152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0800000">
                <a:off x="2819160" y="4343040"/>
                <a:ext cx="152280" cy="457200"/>
              </a:xfrm>
              <a:custGeom>
                <a:avLst/>
                <a:gdLst>
                  <a:gd name="textAreaLeft" fmla="*/ 33480 w 152280"/>
                  <a:gd name="textAreaRight" fmla="*/ 118800 w 1522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3352680"/>
                <a:ext cx="1396800" cy="1117440"/>
              </a:xfrm>
              <a:custGeom>
                <a:avLst/>
                <a:gdLst/>
                <a:ahLst/>
                <a:rect l="l" t="t" r="r" b="b"/>
                <a:pathLst>
                  <a:path w="880" h="704">
                    <a:moveTo>
                      <a:pt x="384" y="680"/>
                    </a:moveTo>
                    <a:cubicBezTo>
                      <a:pt x="336" y="688"/>
                      <a:pt x="312" y="704"/>
                      <a:pt x="288" y="680"/>
                    </a:cubicBezTo>
                    <a:cubicBezTo>
                      <a:pt x="264" y="656"/>
                      <a:pt x="272" y="568"/>
                      <a:pt x="240" y="536"/>
                    </a:cubicBezTo>
                    <a:cubicBezTo>
                      <a:pt x="208" y="504"/>
                      <a:pt x="136" y="528"/>
                      <a:pt x="96" y="488"/>
                    </a:cubicBezTo>
                    <a:cubicBezTo>
                      <a:pt x="56" y="448"/>
                      <a:pt x="0" y="344"/>
                      <a:pt x="0" y="296"/>
                    </a:cubicBezTo>
                    <a:cubicBezTo>
                      <a:pt x="0" y="248"/>
                      <a:pt x="72" y="232"/>
                      <a:pt x="96" y="200"/>
                    </a:cubicBezTo>
                    <a:cubicBezTo>
                      <a:pt x="120" y="168"/>
                      <a:pt x="112" y="128"/>
                      <a:pt x="144" y="104"/>
                    </a:cubicBezTo>
                    <a:cubicBezTo>
                      <a:pt x="176" y="80"/>
                      <a:pt x="240" y="64"/>
                      <a:pt x="288" y="56"/>
                    </a:cubicBezTo>
                    <a:cubicBezTo>
                      <a:pt x="336" y="48"/>
                      <a:pt x="376" y="64"/>
                      <a:pt x="432" y="56"/>
                    </a:cubicBezTo>
                    <a:cubicBezTo>
                      <a:pt x="488" y="48"/>
                      <a:pt x="568" y="0"/>
                      <a:pt x="624" y="8"/>
                    </a:cubicBezTo>
                    <a:cubicBezTo>
                      <a:pt x="680" y="16"/>
                      <a:pt x="736" y="64"/>
                      <a:pt x="768" y="104"/>
                    </a:cubicBezTo>
                    <a:cubicBezTo>
                      <a:pt x="800" y="144"/>
                      <a:pt x="800" y="192"/>
                      <a:pt x="816" y="248"/>
                    </a:cubicBezTo>
                    <a:cubicBezTo>
                      <a:pt x="832" y="304"/>
                      <a:pt x="880" y="392"/>
                      <a:pt x="864" y="440"/>
                    </a:cubicBezTo>
                    <a:cubicBezTo>
                      <a:pt x="848" y="488"/>
                      <a:pt x="768" y="504"/>
                      <a:pt x="720" y="536"/>
                    </a:cubicBezTo>
                    <a:cubicBezTo>
                      <a:pt x="672" y="568"/>
                      <a:pt x="640" y="608"/>
                      <a:pt x="576" y="632"/>
                    </a:cubicBezTo>
                    <a:cubicBezTo>
                      <a:pt x="512" y="656"/>
                      <a:pt x="432" y="672"/>
                      <a:pt x="384" y="680"/>
                    </a:cubicBez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pic>
            <p:nvPicPr>
              <p:cNvPr id="2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800" y="57146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2895480" y="4800240"/>
                <a:ext cx="121932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895480" y="4800240"/>
                <a:ext cx="213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4114800" y="4800240"/>
                <a:ext cx="91440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733920" y="4799880"/>
                <a:ext cx="60948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92440" y="4724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800" spc="-1" strike="noStrike">
                    <a:solidFill>
                      <a:srgbClr val="eaeaea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22840" y="57528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29000" y="54100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o-RO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203720" y="445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5638680" y="3733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 B C ~ </a:t>
            </a:r>
            <a:r>
              <a:rPr b="1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M N 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2-21T22:17:09Z</dcterms:created>
  <dc:creator>ecdl</dc:creator>
  <dc:description/>
  <dc:language>en-US</dc:language>
  <cp:lastModifiedBy>cursant</cp:lastModifiedBy>
  <dcterms:modified xsi:type="dcterms:W3CDTF">2010-09-07T08:58:26Z</dcterms:modified>
  <cp:revision>20</cp:revision>
  <dc:subject/>
  <dc:title>Diapozitivul 1</dc:title>
</cp:coreProperties>
</file>